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F10F-83F1-4A25-A643-FBA7024E7038}" type="slidenum">
              <a:rPr b="0" lang="ar-Q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Q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D230E-CDE3-4280-8E6E-822B72E04ACF}" type="slidenum">
              <a:rPr b="0" lang="ar-Q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Q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3628-F460-4423-AD6F-2AC764ED0A13}" type="slidenum">
              <a:rPr b="0" lang="ar-Q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8AB1-BD03-46FC-A6F9-4CEB1CFD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9807-DF4F-4B68-B2A8-C04F4719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2D2-C4A4-4E02-9FF7-3D9DA2E3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C0B-F923-4B8D-B373-44CFEB25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608F-B200-4E1E-B717-E67D6963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9DED-0768-4D0A-B48A-CD5E22CC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C18-AF7B-4E58-B86F-B4AEA1F3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253B-74D9-4FE5-A4B3-43188078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C415-EEB3-480D-9384-BEB5D6EC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6631-FC1E-4B05-A085-412E7487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671-41AF-46BC-A14D-F36A7343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EBE6-B095-40EF-A96B-4605F6DE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Q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Q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F290-E74C-4559-9F32-42589D475224}" type="slidenum">
              <a:rPr b="0" lang="ar-Q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Title 1"/>
          <p:cNvGrpSpPr/>
          <p:nvPr/>
        </p:nvGrpSpPr>
        <p:grpSpPr>
          <a:xfrm>
            <a:off x="480960" y="907920"/>
            <a:ext cx="7888320" cy="1689120"/>
            <a:chOff x="480960" y="907920"/>
            <a:chExt cx="7888320" cy="1689120"/>
          </a:xfrm>
        </p:grpSpPr>
        <p:pic>
          <p:nvPicPr>
            <p:cNvPr id="49" name="Title 1" descr=""/>
            <p:cNvPicPr/>
            <p:nvPr/>
          </p:nvPicPr>
          <p:blipFill>
            <a:blip r:embed="rId1"/>
            <a:stretch/>
          </p:blipFill>
          <p:spPr>
            <a:xfrm>
              <a:off x="480960" y="907920"/>
              <a:ext cx="7888320" cy="16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39640" y="1052640"/>
              <a:ext cx="77724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QA" sz="4400" spc="-1" strike="noStrike">
                  <a:solidFill>
                    <a:srgbClr val="ff0000"/>
                  </a:solidFill>
                  <a:latin typeface="Calibri"/>
                </a:rPr>
                <a:t> الوحدة الثالثة</a:t>
              </a:r>
              <a:br>
                <a:rPr sz="4400"/>
              </a:br>
              <a:r>
                <a:rPr b="1" lang="ar-QA" sz="4400" spc="-1" strike="noStrike">
                  <a:solidFill>
                    <a:srgbClr val="ff0000"/>
                  </a:solidFill>
                  <a:latin typeface="Calibri"/>
                </a:rPr>
                <a:t>الدرس الرابع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Subtitle 2"/>
          <p:cNvGrpSpPr/>
          <p:nvPr/>
        </p:nvGrpSpPr>
        <p:grpSpPr>
          <a:xfrm>
            <a:off x="1305000" y="2786040"/>
            <a:ext cx="6607080" cy="1962000"/>
            <a:chOff x="1305000" y="2786040"/>
            <a:chExt cx="6607080" cy="1962000"/>
          </a:xfrm>
        </p:grpSpPr>
        <p:pic>
          <p:nvPicPr>
            <p:cNvPr id="52" name="Subtitle 2" descr=""/>
            <p:cNvPicPr/>
            <p:nvPr/>
          </p:nvPicPr>
          <p:blipFill>
            <a:blip r:embed="rId2"/>
            <a:stretch/>
          </p:blipFill>
          <p:spPr>
            <a:xfrm>
              <a:off x="1305000" y="2786040"/>
              <a:ext cx="6607080" cy="196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1403280" y="2924280"/>
              <a:ext cx="64008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QA" sz="4100" spc="-1" strike="noStrike">
                  <a:solidFill>
                    <a:srgbClr val="ff0000"/>
                  </a:solidFill>
                  <a:latin typeface="Calibri"/>
                </a:rPr>
                <a:t>الأجسام المضادة والتطعيم</a:t>
              </a: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100" spc="-1" strike="noStrike">
                  <a:solidFill>
                    <a:srgbClr val="ff0000"/>
                  </a:solidFill>
                  <a:latin typeface="Calibri"/>
                </a:rPr>
                <a:t>Antibodies and Vaccination</a:t>
              </a: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 rtl="1">
                <a:spcBef>
                  <a:spcPts val="10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39640" y="1484280"/>
            <a:ext cx="8229600" cy="2509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 algn="r" rtl="1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1f497d"/>
                </a:solidFill>
                <a:latin typeface="Arial"/>
              </a:rPr>
              <a:t>1</a:t>
            </a:r>
            <a:r>
              <a:rPr b="1" lang="ar-QA" sz="2800" spc="-1" strike="noStrike">
                <a:solidFill>
                  <a:srgbClr val="1f497d"/>
                </a:solidFill>
                <a:latin typeface="Arial"/>
              </a:rPr>
              <a:t>- أنواع خطوط الدفاع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nes of defense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خط دفاع الأول يعمل ضدّ المواد الضارة والكائنات الحية المسببة للأمراض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000000"/>
                </a:solidFill>
                <a:latin typeface="Arial"/>
              </a:rPr>
              <a:t>خط دفاع ثاني يعمل ضدّ مسببات أمراض معينة ويمثل جهاز المناعة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755640" y="549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200" spc="-1" strike="noStrike">
                <a:solidFill>
                  <a:srgbClr val="1f497d"/>
                </a:solidFill>
                <a:latin typeface="Calibri"/>
              </a:rPr>
              <a:t>خطوط دفاع الجسم ضد الأمراض 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Lines of def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2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خط الدفاع الأول 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First line defen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8000"/>
          </a:bodyPr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- يمثل الجلد, الجهاز التنفسي, الجهاز الهضمي والجهاز الدوراني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QA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يعمل الجهاز التنفسي عن طريق المخاط المبطن الذي يضعف الجدار الخلوي لبعض مسببات المرض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الجهاز الهضمي يعتمد على اللعاب, الأنزيمات والحمض الهيدكلوريك والمخاط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يحتوي جهاز الدوران على خلايا الدم البيضاء التي تهضم المواد الغريبة في الجس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 algn="r" rtl="1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0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3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خط الدفاع الثاني(المناعة النوعية)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pecific i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- إذا استطاعت مسببات المرض اختراق خطوط الدفاع الأول فإن الجسم يلجأ إلى خط الدفاع الثاني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- تحطم خلايا اللمفاوية (الخلايا التائية) المواد الغريبة الدخيلة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تنتج الخلايا البائية الأجسام المضادة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i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- تحتوي الخلايا البائية الذاكرة </a:t>
            </a: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emory B cells</a:t>
            </a: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على أجسام مضادة لتكون جاهزة لمواجهة أي هجوم جديد من مسبب المرض نفس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4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تكوين المناعة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ormation immun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78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أ- المناعة الطبيعية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ctive immunity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خلال المناعة الطبيعية ينتج الجسم الأجسام المضاد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ب- المناعة الاصطناعية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تحدث المناعة الاصطناعية</a:t>
            </a: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عندما يحقن الجسم بالأجسام المضادة التي أنتجتها حيوانات لأخرى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ث-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لا تدوم المناعة الاصطناعية طويلا بخلاف المناعة الطبيع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5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التطعيم (التحصين )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acc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2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هو طريقة أخرى لتكوين المناعة الطبيعي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تتمثل في الحصول على </a:t>
            </a:r>
            <a:r>
              <a:rPr b="1" lang="ar-QA" sz="2800" spc="-1" strike="noStrike">
                <a:solidFill>
                  <a:srgbClr val="7030a0"/>
                </a:solidFill>
                <a:latin typeface="Calibri"/>
              </a:rPr>
              <a:t>الطّعم  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Vaccine</a:t>
            </a: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الطعم هو مسبب للمرض ضعيف يحفز الجسم على إنتاج أجسام مضادة دون أن يصاب الشخص بالمر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6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فيروس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IV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وجهاز المناعة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HIV and your imm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1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انتقال المرض الإيد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هاجم فيروس نقص المناعة المكتسبة (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IV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)  الدم وسوائل الجسم المختلف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صاب الشخص بفيروس </a:t>
            </a: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الإيدز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IDS</a:t>
            </a: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خلال الاتصال الجنسي أوعند استعمال الحقن الملوثة بهذا الفيرو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نتقل المرض من الأم المصابة إلى الجنين عبر المشيم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7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فيروس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HIV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وجهاز المناعة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HIV and your immu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82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ff0000"/>
                </a:solidFill>
                <a:latin typeface="Calibri"/>
              </a:rPr>
              <a:t>تأثير الإيدز على المناع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سبب نقص المناع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هاجم الفيروس الخلايا التائية في جهاز المناعة ويتضاعف بداخلها فتنفج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نتج عن ذلك لاتستثار أعداد كافية من الخلايا البائية لإنتاج الأجسام المضادة ومحاربة الفيرو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8</a:t>
            </a:r>
            <a:r>
              <a:rPr b="1" lang="ar-QA" sz="3600" spc="-1" strike="noStrike">
                <a:solidFill>
                  <a:srgbClr val="1f497d"/>
                </a:solidFill>
                <a:latin typeface="Calibri"/>
                <a:ea typeface="Arial"/>
              </a:rPr>
              <a:t>- </a:t>
            </a:r>
            <a:r>
              <a:rPr b="1" lang="ar-QA" sz="2800" spc="-1" strike="noStrike">
                <a:solidFill>
                  <a:srgbClr val="1f497d"/>
                </a:solidFill>
                <a:latin typeface="Calibri"/>
                <a:cs typeface="Arial"/>
              </a:rPr>
              <a:t>الملاريا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Mala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يصاب الإنسان بمرض الملاريا بسبب طفيل يسمى البلازموديوم وينتقل إلى جسم الإنسان بواسطة أنثى بعوضة الأنوفيل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buClr>
                <a:srgbClr val="000000"/>
              </a:buClr>
              <a:buFont typeface="Calibri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من أعراضه ارتفاع درجة الحرارة والبرد والصدا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Q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8:51:38Z</dcterms:created>
  <dc:creator>Windows User</dc:creator>
  <dc:description/>
  <dc:language>en-US</dc:language>
  <cp:lastModifiedBy>ICT QATAR</cp:lastModifiedBy>
  <dcterms:modified xsi:type="dcterms:W3CDTF">2012-11-06T16:19:25Z</dcterms:modified>
  <cp:revision>202</cp:revision>
  <dc:subject/>
  <dc:title>الدرس الثاني</dc:title>
</cp:coreProperties>
</file>